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DC76-9376-44B9-B70D-624D1514E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79B7-DD4A-42B7-AC5D-F6D5BCE0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0644-2DCF-45D7-AF79-498D67ECB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55E2-911B-4667-A3CF-7A3AF2ED5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3089-FBDC-45CA-8693-AA1ED8CD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1ADD-7371-43CB-B3F7-66A0F9D6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6C29-79FF-496E-A9E5-873BB7AD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5474-5713-455C-9CF2-975F462F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F680-68A6-4DF7-9E31-825036A6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72C1-0572-47AF-9D35-9CD00B70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0B55-B91D-4FAC-8658-1CD71EC2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A7F7-5EDB-41E9-BBD9-12F4A936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A241-9EEC-4787-BF93-DD43883FF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blc1519f03" descr=""/>
          <p:cNvPicPr/>
          <p:nvPr/>
        </p:nvPicPr>
        <p:blipFill>
          <a:blip r:embed="rId1"/>
          <a:stretch/>
        </p:blipFill>
        <p:spPr>
          <a:xfrm>
            <a:off x="4724280" y="53352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42" name="Mblasp10f04" descr=""/>
          <p:cNvPicPr/>
          <p:nvPr/>
        </p:nvPicPr>
        <p:blipFill>
          <a:blip r:embed="rId2"/>
          <a:stretch/>
        </p:blipFill>
        <p:spPr>
          <a:xfrm>
            <a:off x="152280" y="369576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53160" y="76320"/>
            <a:ext cx="33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 cleaning: UV o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Mblasp10f02" descr=""/>
          <p:cNvPicPr/>
          <p:nvPr/>
        </p:nvPicPr>
        <p:blipFill>
          <a:blip r:embed="rId3"/>
          <a:stretch/>
        </p:blipFill>
        <p:spPr>
          <a:xfrm>
            <a:off x="152280" y="552600"/>
            <a:ext cx="4267440" cy="3200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8520" y="56340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d before UV ozone clea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8880" y="3733920"/>
            <a:ext cx="26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d w. better tip (same da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71760" y="609480"/>
            <a:ext cx="27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ter cleaning (and 5 days lat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30440" y="380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It seems it does work a bit at lea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97720" y="4114800"/>
            <a:ext cx="4112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dure used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nse tip in ethan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UV ozone cleaner for 10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oor room 828, contact person Rob Zonderv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nse with ethanol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d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uspect that it is the last ethanol rinse that is importa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5562720"/>
            <a:ext cx="3809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mple is MBL/MASP complexes. It seems we only see MASP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ensity is probably very low due to a rinse with buffer before DI water rins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haps complexes sedimented due to 6 min ultracentrifugation or they wre washed of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532280" y="6485040"/>
            <a:ext cx="141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nriette October 15 2002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15:43:30Z</dcterms:created>
  <dc:creator>Henriette Jensenius</dc:creator>
  <dc:description/>
  <dc:language>en-US</dc:language>
  <cp:lastModifiedBy>hjensen</cp:lastModifiedBy>
  <dcterms:modified xsi:type="dcterms:W3CDTF">2003-07-11T09:04:22Z</dcterms:modified>
  <cp:revision>5</cp:revision>
  <dc:subject/>
  <dc:title>PowerPoint Presentation</dc:title>
</cp:coreProperties>
</file>